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9F3A6-DB70-46B0-98A6-DEC45B20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EF58A-F1C6-4632-BF62-08D6C3C6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2E560-736E-4E7C-9F38-550563E2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D2624-333C-4243-A324-27620B54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has struggled in third grade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74E01-8995-4B4F-BDE1-B24AE42E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2FA7A-2575-44EC-93CF-63286C8E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14541-4134-4391-A78F-3BC11D62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29D71-C838-4582-8B4D-41D91805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0E6FB-2B71-4613-88B6-9A8C7FA0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7F9B7-013D-4887-A77F-1DA75BB4A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A g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other districts in overall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F703E-6527-46C5-B351-177011303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FAD92-4A9A-4E1D-A271-C0230576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53C7D-9165-4BCB-AE52-E53C759D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53810-6606-4610-A817-3D4E2938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3C615-42BB-4BA4-B66F-98CDC070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85983-36B1-4832-92AE-18D3F11C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becomes more difficult in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ve 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4413B-05D3-49EE-AE37-F6CDAAD9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strict, we have been focused on CA and we have seen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have lit support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MA support that we had when the math program wa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need additional PD on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to get PD done after school and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B4C69-DA13-469D-B0CC-4601FE38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increase and cohort 2008 and 2009 4/5—big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74975-E550-4851-A16B-2D9EBAE3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07FB8-ED5C-4D79-B628-610EB1B13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6944A-D3EC-4727-91A0-1123E5AC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60421-2C21-447A-BCE9-FF925B66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30375-6720-4938-86E0-33C674BC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4C61C-0939-4C17-B2C7-ADE992DE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ight discuss three measures of student performance that measure student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995DA-C86B-41EF-AF16-7A837354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AEAED-2B66-4901-9D62-B908F40C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elayed cur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977D8-A8B7-4C5D-B0BC-77C00BEC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urric 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8D790-586A-401D-A537-0E368432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E92DA-3941-4BD9-B4B3-C353647B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 performance across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n total in all subgroups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t total in 3/5 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d by 3 in CA and 8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8B261-334C-41F8-9E9B-23F707F6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we have great increase, this is the reason why it is difficult to support NC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AJ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aking in one subgroup will keep school from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a story of gap achievement rather than school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17E1E-7382-4597-A7C7-A3721E6D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 possible sanctions—state to choos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 programmatic f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and implement a new cur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district personnel relevant to the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particular  schools from the jurisdictions of 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 a receiver or trustee to administer the affairs of t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sh or restructure the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ze students to transfer from the district to another higher performing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 letters to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plan to im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6EB46-F4FB-4490-86E1-D8531B24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24272-4C50-42C2-905D-E2A555F2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E74BD-D75B-4F90-81E5-05520CD26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61189-4168-4646-B97E-C10D5FD9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27D7F-2C22-436B-ABA0-0ADDAB523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 Cour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.4-----met High 1 even after courses were reco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------1.5 percent short of goal of moving to average 16.4—wanted to 17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.8------more accurate reporting data and still made—but did have a 11% 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.3------met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.--------increased by 1.2 %--anticipated 1.0%; need 93.7 for Hig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.3------previous year 9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Floor—goal was to get to average—mOVED FROM 8/16 to 1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A2D46-C35C-4104-A9BC-8D82B115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ly normed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4BC7B-4AEF-451B-BECB-48EC21AF8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39FAB-7360-4857-8836-47C284DE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.4% of the District’s 1513 graduating seniors in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645ED-4016-4091-8774-4670EC16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95293-D8D3-4688-9278-7F80E5DD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is is the highest percentage of Heritage graduates to pursue a post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D9419-4838-4068-8633-765CBEEA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1136E-8E50-43A4-BA9B-C1D18046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iculum – Fide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 – Marzano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ments –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ional Development—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ing info to PLC teams and working with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INCREASE IN EXPECTATIONS THIS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9ABFE-2B08-4841-965C-584A06B5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in red reached highest attendance in five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558C8-531F-48B6-AE7B-BAE8805B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88B9B-979D-44B0-8F6E-50438A1A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0EEC4-29EE-4AFD-A793-6B47A896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 30% students had 10 or more absences n 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 26 % in 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63E6D-FBD4-46CA-8BF1-B08BAF0E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have to teach the desired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e discipline refer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27CD3-3C01-40BE-9C50-D4A728637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AE26F-FFD3-43E3-B274-4AA20E18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3BB84-89A0-48AE-B354-62E2A343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AFB96-2717-4DD4-B0A2-6479CC35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CDC-503B-4331-97A6-A5BAB491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607-8479-4A27-9B6C-9EE12AE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F82-E3DA-4A6E-9A37-049E1982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EDC-514E-4C4D-BE28-8A10E409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F2D-3C7D-4687-A7D3-726F966E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883-B3BD-45DF-AD16-9EB051C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F03-A25F-44A0-BF8F-268392A2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1B5-280D-4126-9B6B-FE26DAD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344-2E00-4B92-B6E6-DECAE2C9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AAF-CB07-4A29-A798-C1043B4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268-4523-499A-9BDE-8CE6FC7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F62-E440-44B9-8777-75A970E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 Prelim AY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4E87-5E5A-4162-9FF0-CCE6152D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5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Annual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Student Performance Repor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0" y="380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Francis Howel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School Distric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05320" y="525780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. Pam Slo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10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2860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8" descr="fhsd_3d_nobkgd"/>
          <p:cNvPicPr/>
          <p:nvPr/>
        </p:nvPicPr>
        <p:blipFill>
          <a:blip r:embed="rId2"/>
          <a:stretch/>
        </p:blipFill>
        <p:spPr>
          <a:xfrm>
            <a:off x="252360" y="304920"/>
            <a:ext cx="150012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28600" y="19051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8600" y="2057400"/>
            <a:ext cx="8686800" cy="0"/>
          </a:xfrm>
          <a:prstGeom prst="line">
            <a:avLst/>
          </a:prstGeom>
          <a:ln w="76320">
            <a:solidFill>
              <a:srgbClr val="e68900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57240">
            <a:solidFill>
              <a:srgbClr val="003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YP—Adequate Yearly Progress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ederal--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4920" y="914400"/>
            <a:ext cx="80769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008 GOA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benchmark in 12/16 MAP sub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Additional Indicators—graduation rate and attendance 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LEP—CA and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FRL—CA and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04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127"/>
          <p:cNvSpPr/>
          <p:nvPr/>
        </p:nvSpPr>
        <p:spPr>
          <a:xfrm>
            <a:off x="228600" y="25146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2590920"/>
          <a:ext cx="762012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990720"/>
                <a:gridCol w="114300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=Met    NM=Not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n/Pacific Isla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/Reduced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anc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80880" y="-7632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3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5257800" y="22860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3429000" y="228600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1676520" y="2286000"/>
            <a:ext cx="190476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736640" y="1327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80880" y="-1522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4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7010280" y="25146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5257800" y="251460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3429000" y="2514600"/>
            <a:ext cx="190512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66068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76320" y="121932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2193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6934320" y="2590920"/>
            <a:ext cx="1904760" cy="3276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5181480" y="2514600"/>
            <a:ext cx="182880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584360" y="163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152280" y="114300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7200" y="4572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- Element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52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de 3 and Grade 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in % proficien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al State incre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 in % proficien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al State incre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380880" y="-1522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6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5029200" y="251460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276720" y="251460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1447920" y="2666880"/>
            <a:ext cx="182880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1508040" y="1555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228600" y="990720"/>
          <a:ext cx="91440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907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0880" y="-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7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6858000" y="2133720"/>
            <a:ext cx="1905120" cy="327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5029200" y="2133720"/>
            <a:ext cx="1905120" cy="3276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352680" y="2209680"/>
            <a:ext cx="167652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508040" y="117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228600" y="762120"/>
          <a:ext cx="9144000" cy="53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762120"/>
                    <a:ext cx="91440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0880" y="-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COM AR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7010280" y="2286000"/>
            <a:ext cx="175284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5181480" y="2362320"/>
            <a:ext cx="182880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584360" y="1479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152280" y="914400"/>
          <a:ext cx="914400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914400"/>
                    <a:ext cx="91440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– Middle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838080" y="14479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6 and Grade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shows more growth tha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State trend with more students in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228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2006-2008  Grade 11            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 2009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  English I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447920"/>
          <a:ext cx="9144000" cy="525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4"/>
          <p:cNvSpPr/>
          <p:nvPr/>
        </p:nvSpPr>
        <p:spPr>
          <a:xfrm>
            <a:off x="7162920" y="259092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7543800" y="6080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O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pdate the Board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 the academic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the district and to share improvement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5720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A Trends – High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85800" y="1828800"/>
            <a:ext cx="85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Course (EOC)—English 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10% of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State in % proficient by more than 1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3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5181480" y="243828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3429000" y="243828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1523880" y="2209680"/>
            <a:ext cx="1981440" cy="350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-152280" y="11430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4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6858000" y="2438280"/>
            <a:ext cx="190512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5105520" y="243828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3200400" y="2286000"/>
            <a:ext cx="20574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228600" y="1143000"/>
          <a:ext cx="9182160" cy="52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143000"/>
                    <a:ext cx="91821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6781680" y="2209680"/>
            <a:ext cx="1981440" cy="358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029200" y="2362320"/>
            <a:ext cx="198108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152280" y="1219320"/>
          <a:ext cx="906768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19320"/>
                    <a:ext cx="9067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609480" y="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- Element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447920" y="990720"/>
            <a:ext cx="91440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slight decre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incre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6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5105520" y="2286000"/>
            <a:ext cx="1904760" cy="327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276720" y="2286000"/>
            <a:ext cx="190476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1371600" y="2209680"/>
            <a:ext cx="213372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508040" y="163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28600" y="914400"/>
          <a:ext cx="91440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1440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7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105520" y="2514600"/>
            <a:ext cx="1904760" cy="3429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6934320" y="2362320"/>
            <a:ext cx="1904760" cy="3581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3200400" y="2362320"/>
            <a:ext cx="2209680" cy="3504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-152280" y="12952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952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57200" y="380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MATHEMAT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6781680" y="2438280"/>
            <a:ext cx="1905120" cy="327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952880" y="2286000"/>
            <a:ext cx="2210040" cy="350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1584360" y="170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152280" y="1143000"/>
          <a:ext cx="899136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143000"/>
                    <a:ext cx="8991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– Middle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7621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had a slight in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rop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had increase of 8.3% this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 sligh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ain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524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6-08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10</a:t>
            </a:r>
            <a:r>
              <a:rPr b="1" lang="en-US" sz="44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 Grade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 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lgebra I (9</a:t>
            </a:r>
            <a:r>
              <a:rPr b="1" lang="en-US" sz="44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3716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Line 10"/>
          <p:cNvSpPr/>
          <p:nvPr/>
        </p:nvSpPr>
        <p:spPr>
          <a:xfrm>
            <a:off x="7086600" y="18288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543800" y="5943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O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How is Academic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Performance Measu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2284560"/>
          <a:ext cx="9315360" cy="405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4560"/>
                    <a:ext cx="931536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60948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MA Trends – High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06668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ourse (EOC)—Algebra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 20% of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the state by 8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lgebra I scores will not count until ninth 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5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0760" y="1405080"/>
          <a:ext cx="8502480" cy="511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760" y="1405080"/>
                    <a:ext cx="85024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RADE 8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54120" y="1720800"/>
          <a:ext cx="7835760" cy="49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120" y="1720800"/>
                    <a:ext cx="78357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SC Trends - Grades 5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5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8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erformed State in % Pro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IOLOGY I END OF COUR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3640" y="1460520"/>
          <a:ext cx="7954920" cy="50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640" y="1460520"/>
                    <a:ext cx="795492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Biology I Trends– 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ourse (EOC)—Bi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irst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ed in top 3%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erformed the state by 21.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04920" y="-4539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End-of-Course Exa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1523880" y="9144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p Ten school districts for exam pass ra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Districts in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ppear in all three top ten list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36"/>
          <p:cNvSpPr/>
          <p:nvPr/>
        </p:nvSpPr>
        <p:spPr>
          <a:xfrm>
            <a:off x="3048120" y="20574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37"/>
          <p:cNvSpPr/>
          <p:nvPr/>
        </p:nvSpPr>
        <p:spPr>
          <a:xfrm>
            <a:off x="6172200" y="21337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38"/>
          <p:cNvSpPr/>
          <p:nvPr/>
        </p:nvSpPr>
        <p:spPr>
          <a:xfrm>
            <a:off x="0" y="289548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228600" y="5943600"/>
            <a:ext cx="47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. Louis Post Dispatch 08.13.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320" y="2463840"/>
          <a:ext cx="9601200" cy="3479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463840"/>
                    <a:ext cx="96012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3520" y="-763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ACHIEVEMENT GAP CURRENT RE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28600" y="6324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=Me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RED=Not M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280" y="1219320"/>
          <a:ext cx="8723520" cy="4381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19320"/>
                    <a:ext cx="87235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Line 11"/>
          <p:cNvSpPr/>
          <p:nvPr/>
        </p:nvSpPr>
        <p:spPr>
          <a:xfrm>
            <a:off x="4876920" y="1143000"/>
            <a:ext cx="0" cy="426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Schools in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 Weld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1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nwe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y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Midd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llenbec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eg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Nor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ll Cent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Year 2 delay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492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District in Improvement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Level 3</a:t>
            </a:r>
            <a:br>
              <a:rPr sz="4400"/>
            </a:b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Corrective Action Need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362320" y="3581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8-2009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udent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entify learning gaps, align strategies and implement a rigorous curriculum to advance the achievement of all learners using the Professional Learning Communities school improvement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St. Charles Cou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School District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(see noteboo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AP % Gai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2002-2009</a:t>
            </a:r>
            <a:r>
              <a:rPr b="1" lang="en-US" sz="4400" spc="-1" strike="noStrike">
                <a:solidFill>
                  <a:srgbClr val="004182"/>
                </a:solidFill>
                <a:latin typeface="Arial"/>
              </a:rPr>
              <a:t>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9"/>
          <p:cNvSpPr/>
          <p:nvPr/>
        </p:nvSpPr>
        <p:spPr>
          <a:xfrm>
            <a:off x="228600" y="60958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066680"/>
          <a:ext cx="8610480" cy="5334120"/>
        </p:xfrm>
        <a:graphic>
          <a:graphicData uri="http://schemas.openxmlformats.org/drawingml/2006/table">
            <a:tbl>
              <a:tblPr/>
              <a:tblGrid>
                <a:gridCol w="1324080"/>
                <a:gridCol w="641160"/>
                <a:gridCol w="720720"/>
                <a:gridCol w="690480"/>
                <a:gridCol w="669960"/>
                <a:gridCol w="800280"/>
                <a:gridCol w="801720"/>
                <a:gridCol w="799920"/>
                <a:gridCol w="801720"/>
                <a:gridCol w="639720"/>
                <a:gridCol w="72072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 K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/R L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FRICAN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SP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lue Spring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u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rancis H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t. Zumw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zelw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e’s Sum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k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tton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ockw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7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. Char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351"/>
          <p:cNvSpPr/>
          <p:nvPr/>
        </p:nvSpPr>
        <p:spPr>
          <a:xfrm>
            <a:off x="228600" y="6491160"/>
            <a:ext cx="2362320" cy="368280"/>
          </a:xfrm>
          <a:prstGeom prst="rect">
            <a:avLst/>
          </a:prstGeom>
          <a:solidFill>
            <a:srgbClr val="337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ghest % Gai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ays to</a:t>
            </a: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eet</a:t>
            </a: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71600"/>
          <a:ext cx="9144000" cy="488628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igh 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ne SD above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High Tw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/3 SD above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ver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elow A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/3 SD below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lo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ne SD below the mean for the stat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6"/>
          <p:cNvSpPr/>
          <p:nvPr/>
        </p:nvSpPr>
        <p:spPr>
          <a:xfrm>
            <a:off x="152280" y="63244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D—standard dev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PR—Annual Performance Report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 Goal – Meet 14/14 standards……..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5800" y="2336760"/>
          <a:ext cx="7391520" cy="496728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97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AP 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dvanced Cou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eer Education Courses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ow Av                  Met (Combined)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llege 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reer Education 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radu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2 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ttendance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M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ubgroup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1                       Exc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Line 83"/>
          <p:cNvSpPr/>
          <p:nvPr/>
        </p:nvSpPr>
        <p:spPr>
          <a:xfrm>
            <a:off x="152280" y="20574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0880" y="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dvanced Placement (AP) 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27080" y="4608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127080" y="46080"/>
            <a:ext cx="8229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457200" y="504720"/>
            <a:ext cx="822960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0880" y="914400"/>
          <a:ext cx="83757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3757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52280" y="304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ercent of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xam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Scoring 3 or Ab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-76320" y="1003320"/>
          <a:ext cx="9144000" cy="582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003320"/>
                    <a:ext cx="91440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91440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ACT Particip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" y="861840"/>
          <a:ext cx="8458200" cy="508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61840"/>
                    <a:ext cx="84582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5715000" y="6019920"/>
            <a:ext cx="2971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219320"/>
          <a:ext cx="8163000" cy="54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1630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57200" y="5364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ACT Composite Scor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Measur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oal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5791320" y="5943600"/>
            <a:ext cx="31240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RE                     23.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ESS THAN CORE 20.6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arly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ritage Alternativ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008-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 students graduated in June; three are pursuing a post secondary edu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students have developed SMART goals relating to achievement, attendance and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achievement goals are related to improving their use of non-fiction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8-09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 14/14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YP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deral/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in 12/16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graduation and attendanc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rancis Howell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1"/>
          <p:cNvSpPr/>
          <p:nvPr/>
        </p:nvSpPr>
        <p:spPr>
          <a:xfrm>
            <a:off x="685800" y="304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Performance Challeng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2819520" y="111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152280" y="1981080"/>
            <a:ext cx="91440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173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lementary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—K-5; MA 3, 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 6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tle One Schoo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 6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Releva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CURRICULUM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eer E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group impro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endance—sub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ropout—subgroup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Improve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04920" y="1447920"/>
            <a:ext cx="8686800" cy="61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ional Learning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iculum – Fide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struction – Marzano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essments – Data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ven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nitoring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ional Development—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dership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t Invol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dditional Local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79856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HSD Attendance 2005-2009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371600"/>
          <a:ext cx="9144000" cy="533412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9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F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J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Line 442"/>
          <p:cNvSpPr/>
          <p:nvPr/>
        </p:nvSpPr>
        <p:spPr>
          <a:xfrm>
            <a:off x="838080" y="13716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443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HSD Attendance 2005-2009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iddle and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523880"/>
          <a:ext cx="9144000" cy="5105520"/>
        </p:xfrm>
        <a:graphic>
          <a:graphicData uri="http://schemas.openxmlformats.org/drawingml/2006/table">
            <a:tbl>
              <a:tblPr/>
              <a:tblGrid>
                <a:gridCol w="592200"/>
                <a:gridCol w="761760"/>
                <a:gridCol w="762120"/>
                <a:gridCol w="762120"/>
                <a:gridCol w="761760"/>
                <a:gridCol w="762120"/>
                <a:gridCol w="847800"/>
                <a:gridCol w="846000"/>
                <a:gridCol w="762120"/>
                <a:gridCol w="762120"/>
                <a:gridCol w="761760"/>
                <a:gridCol w="7621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6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5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3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5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Line 496"/>
          <p:cNvSpPr/>
          <p:nvPr/>
        </p:nvSpPr>
        <p:spPr>
          <a:xfrm>
            <a:off x="4419720" y="16002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97"/>
          <p:cNvSpPr/>
          <p:nvPr/>
        </p:nvSpPr>
        <p:spPr>
          <a:xfrm>
            <a:off x="6858000" y="16002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85800" y="609480"/>
          <a:ext cx="7924680" cy="518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9246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0+ Absences -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280" y="914400"/>
          <a:ext cx="8839440" cy="5791320"/>
        </p:xfrm>
        <a:graphic>
          <a:graphicData uri="http://schemas.openxmlformats.org/drawingml/2006/table">
            <a:tbl>
              <a:tblPr/>
              <a:tblGrid>
                <a:gridCol w="2819520"/>
                <a:gridCol w="2657520"/>
                <a:gridCol w="1519200"/>
                <a:gridCol w="1843200"/>
              </a:tblGrid>
              <a:tr h="66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cky 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t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el Bo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7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d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vest Ri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el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.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Elementary 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8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6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2.7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2057400" y="15238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542"/>
          <p:cNvSpPr/>
          <p:nvPr/>
        </p:nvSpPr>
        <p:spPr>
          <a:xfrm>
            <a:off x="1230480" y="10152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+ Absences – High School/Middl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609480"/>
          <a:ext cx="8839440" cy="6242040"/>
        </p:xfrm>
        <a:graphic>
          <a:graphicData uri="http://schemas.openxmlformats.org/drawingml/2006/table">
            <a:tbl>
              <a:tblPr/>
              <a:tblGrid>
                <a:gridCol w="3125880"/>
                <a:gridCol w="1905120"/>
                <a:gridCol w="1903320"/>
                <a:gridCol w="190512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Percent +/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6.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Heri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0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00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5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6.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7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7.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4.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High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chool 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-12.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Barn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5.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Hollenb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0.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H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19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a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0.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Bryan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-38.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Middl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 School 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-15.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0+ Absences Report—Distric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28600" y="1371600"/>
          <a:ext cx="8610480" cy="5334120"/>
        </p:xfrm>
        <a:graphic>
          <a:graphicData uri="http://schemas.openxmlformats.org/drawingml/2006/table">
            <a:tbl>
              <a:tblPr/>
              <a:tblGrid>
                <a:gridCol w="2666880"/>
                <a:gridCol w="2133720"/>
                <a:gridCol w="1941480"/>
                <a:gridCol w="1868400"/>
              </a:tblGrid>
              <a:tr h="99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07-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08-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cent 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2.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5.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Element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2.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dentify learn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ign strategie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   Interven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lement a rigorous curriculu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ote 66 curricu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ed to stat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vance the achievement of all learner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—CA 3, 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—CA and 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S—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Professional Learning Communities school improve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2008-2009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1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1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lementary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752480"/>
          <a:ext cx="8686800" cy="3360960"/>
        </p:xfrm>
        <a:graphic>
          <a:graphicData uri="http://schemas.openxmlformats.org/drawingml/2006/table">
            <a:tbl>
              <a:tblPr/>
              <a:tblGrid>
                <a:gridCol w="958680"/>
                <a:gridCol w="1148040"/>
                <a:gridCol w="1147680"/>
                <a:gridCol w="1147680"/>
                <a:gridCol w="1224000"/>
                <a:gridCol w="1224000"/>
                <a:gridCol w="183672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005-09 %  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2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Text Box 2708"/>
          <p:cNvSpPr/>
          <p:nvPr/>
        </p:nvSpPr>
        <p:spPr>
          <a:xfrm>
            <a:off x="304920" y="54864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-In-school sus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-Out of school susp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S/HS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4"/>
          <p:cNvSpPr/>
          <p:nvPr/>
        </p:nvSpPr>
        <p:spPr>
          <a:xfrm>
            <a:off x="152280" y="6095880"/>
            <a:ext cx="405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SS-In-school suspen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-Out of school suspen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990720"/>
          <a:ext cx="9144000" cy="2146320"/>
        </p:xfrm>
        <a:graphic>
          <a:graphicData uri="http://schemas.openxmlformats.org/drawingml/2006/table">
            <a:tbl>
              <a:tblPr/>
              <a:tblGrid>
                <a:gridCol w="2041560"/>
                <a:gridCol w="979560"/>
                <a:gridCol w="1119240"/>
                <a:gridCol w="1207800"/>
                <a:gridCol w="1182960"/>
                <a:gridCol w="1307880"/>
                <a:gridCol w="13050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Middle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%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0" y="3733920"/>
          <a:ext cx="8991720" cy="2224080"/>
        </p:xfrm>
        <a:graphic>
          <a:graphicData uri="http://schemas.openxmlformats.org/drawingml/2006/table">
            <a:tbl>
              <a:tblPr/>
              <a:tblGrid>
                <a:gridCol w="2006640"/>
                <a:gridCol w="963720"/>
                <a:gridCol w="1123920"/>
                <a:gridCol w="1123920"/>
                <a:gridCol w="1204920"/>
                <a:gridCol w="1284120"/>
                <a:gridCol w="128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High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% 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762120" y="54936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-2010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52280" y="2286000"/>
            <a:ext cx="9677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dentify and close learning 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Align research-based strategies to improve teaching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lement and monitor a rigorous curriculum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ance the achievement of all lear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Use PL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ederal/NCLB/AYP Goa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eet in 12/16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ose the gaps in those groups who do not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E/APR Go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Meet 14/14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8-09 GOAL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9-10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(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H1; 2 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H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2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6.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75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3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H1N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7.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et in alt metho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chievement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 G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tendance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attend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than 10 abs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on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ehavior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behalf of the FHSD students—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HANK YOU 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FHSD STAFF 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4228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ce is never an accident. It is always the result of high intention, sincere effort, and intelligent execution…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ristot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Ways to</a:t>
            </a:r>
            <a:r>
              <a:rPr b="1" lang="en-US" sz="40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Meet</a:t>
            </a:r>
            <a:r>
              <a:rPr b="1" lang="en-US" sz="4000" spc="-1" strike="noStrike">
                <a:solidFill>
                  <a:srgbClr val="ff9933"/>
                </a:solidFill>
                <a:latin typeface="Tahoma"/>
              </a:rPr>
              <a:t>”</a:t>
            </a:r>
            <a:r>
              <a:rPr b="1" lang="en-US" sz="4000" spc="-1" strike="noStrike">
                <a:solidFill>
                  <a:srgbClr val="00418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Federal/NCL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920960"/>
          <a:ext cx="6782040" cy="3794040"/>
        </p:xfrm>
        <a:graphic>
          <a:graphicData uri="http://schemas.openxmlformats.org/drawingml/2006/table">
            <a:tbl>
              <a:tblPr/>
              <a:tblGrid>
                <a:gridCol w="1946520"/>
                <a:gridCol w="483552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Y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Growth Mode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afe Harb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C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Confidence Interv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4182"/>
                          </a:solidFill>
                          <a:latin typeface="Tahoma"/>
                        </a:rPr>
                        <a:t>Safe Harbor and Confidence Interv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60280" y="0"/>
          <a:ext cx="8623440" cy="857160"/>
        </p:xfrm>
        <a:graphic>
          <a:graphicData uri="http://schemas.openxmlformats.org/drawingml/2006/table">
            <a:tbl>
              <a:tblPr/>
              <a:tblGrid>
                <a:gridCol w="5486400"/>
                <a:gridCol w="3137040"/>
              </a:tblGrid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Department of Elementary and Secondary Education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S HOWELL R-III (092088 )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LIMINARY Adequate Yearly Progress*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756400" y="0"/>
          <a:ext cx="3117600" cy="838080"/>
        </p:xfrm>
        <a:graphic>
          <a:graphicData uri="http://schemas.openxmlformats.org/drawingml/2006/table">
            <a:tbl>
              <a:tblPr/>
              <a:tblGrid>
                <a:gridCol w="1461960"/>
                <a:gridCol w="876240"/>
                <a:gridCol w="779400"/>
              </a:tblGrid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s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Ar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Action:   District Improvement Level 3, Corrective Action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" y="853920"/>
          <a:ext cx="8667720" cy="8805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53920"/>
                    <a:ext cx="8667720" cy="88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9800" y="343080"/>
          <a:ext cx="8070840" cy="623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800" y="343080"/>
                    <a:ext cx="8070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32:50Z</dcterms:created>
  <dc:creator>FHSD</dc:creator>
  <dc:description/>
  <dc:language>en-US</dc:language>
  <cp:lastModifiedBy>teacher</cp:lastModifiedBy>
  <dcterms:modified xsi:type="dcterms:W3CDTF">2009-11-03T03:26:09Z</dcterms:modified>
  <cp:revision>211</cp:revision>
  <dc:subject/>
  <dc:title>Data Workshop</dc:title>
</cp:coreProperties>
</file>